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EF56-F43E-4842-8457-C32422557CC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CBD5-A1BD-4665-807F-B3B3A1F823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73A1-467F-47A2-99B2-13A59D8FEB7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6221-1C1E-4B91-A2EC-BC1DCD6283F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510-67B0-4622-B881-FEE355EF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2A8-158E-47EA-BFAC-86119D0C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64F-7AE7-4433-8E24-638F12E5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CC1-727C-4ABC-B348-C42B9985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F78B8-FED5-468E-BDA5-F7541FC1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D67F8-684A-4E40-8B94-65A133FC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06686-09A2-4469-94D6-F5F2F39C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9868D-35DA-4D37-8A08-74903FE8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8E61B-BA9C-4779-8B80-5B8D7555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43B1C-2F6E-4941-A57F-51FBBE02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86956-395D-4F91-9BD8-C3D16BED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69B-DE58-4858-96C2-087EBECD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98A67-132C-40D9-92F3-F005334A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13BF9-CD63-4005-A1A7-071977E8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AA6BB-51F5-4457-9E51-EF822991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A69E7-AF39-4473-A730-C3279E4D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48CD4-82F0-4F51-B61E-D8C90223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F67-9540-4B26-8EAC-3CB86C5B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AC5-2D1F-4E42-B564-21D3CDF4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A3F-C30E-484C-9D9C-2E888EC6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CAA-0B86-4A12-9FEB-82929214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79C-0FD8-404D-ABB5-7DE7E955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5DD-75F3-44CA-B31A-219B0F82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00F-026B-4105-BBFE-B2571AF2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0B97-557E-4384-A622-088DEBFFC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C428-FDA4-471C-B93E-37EE7201DB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148&amp;img_url=kirigor2005.narod.ru/1Jivopis/thumbnails/003jj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ed=1&amp;text=&#1075;&#1086;&#1088;&#1086;&#1076;&#1089;&#1082;&#1086;&#1081;%20&#1087;&#1077;&#1081;&#1079;&#1072;&#1078;%20&#1074;%20&#1082;&#1072;&#1088;&#1090;&#1080;&#1085;&#1082;&#1072;&#1093;&amp;p=28&amp;img_url=z1.foto.rambler.ru/public/tagen/_photos/griboedo/griboedo-web.jpg&amp;rpt=simage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yandex.ru/yandsearch?ed=1&amp;text=&#1087;&#1077;&#1081;&#1079;&#1072;&#1078;%20&#1080;.&#1096;&#1080;&#1096;&#1082;&#1080;&#1085;&#1072;&amp;p=13&amp;img_url=www.belygorod.ru/img2/RusskieKartinki/Used/mshishkin_na_severe_dikom1.jpg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93&amp;img_url=artnow.ru/img/381000/381970s.jpg&amp;rpt=simage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yandex.ru/yandsearch?ed=1&amp;text=&#1087;&#1086;&#1088;&#1090;&#1088;&#1077;&#1090;&#1099;%20&#1076;&#1077;&#1074;&#1086;&#1095;&#1082;&#1080;%20&#1089;%20&#1087;&#1077;&#1088;&#1089;&#1080;&#1082;&#1072;&#1084;&#1080;&amp;p=15&amp;img_url=intod.ru/obz10/ris2/image013.jpg&amp;rpt=simage" TargetMode="Externa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5;&#1072;&#1090;&#1102;&#1088;&#1084;&#1086;&#1088;&#1090;&#1099;%20&#1080;.&#1075;&#1088;&#1072;&#1073;&#1072;&#1088;&#1103;&amp;p=18&amp;img_url=www.ljplus.ru/img4/c/h/chernyi_sterh6/leto_kartiny_0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rpt=simage&amp;img_url=s004.radikal.ru/i207/1002/75/dff539e03856.jpg&amp;ed=1&amp;text=&#1085;&#1072;&#1090;&#1102;&#1088;&#1084;&#1086;&#1088;&#1090;&#1099;%20&#1074;%20&#1087;&#1088;&#1086;&#1080;&#1079;&#1074;&#1077;&#1076;&#1077;&#1085;&#1080;&#1103;&#1093;%20&#1093;&#1091;&#1076;&#1086;&#1078;&#1085;&#1080;&#1082;&#1086;&#1074;&amp;p=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0;&#1090;&#1077;&#1088;%20&#1082;&#1083;&#1072;&#1089;%20&#1085;&#1072;&#1090;&#1102;&#1088;&#1084;&#1086;&#1088;&#1090;&amp;rpt=simage&amp;img_url=i.family.booknik.ru/_img/255-244.jpg&amp;p=13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rpt=simage&amp;text=&#1087;&#1080;&#1090;&#1077;&#1088;%20&#1082;&#1083;&#1072;&#1089;%20&#1085;&#1072;&#1090;&#1102;&#1088;&#1084;&#1086;&#1088;&#1090;&amp;p=42&amp;img_url=img0.liveinternet.ru/images/attach/b/3/20/393/20393896_Claesz_Pieter_ak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text=&#1087;&#1086;&#1088;&#1090;&#1088;&#1077;&#1090;%20&#1075;&#1088;&#1072;&#1092;&#1072;%20&#1084;&#1091;&#1088;&#1072;&#1074;&#1100;&#1077;&#1074;&#1072;%20&#1093;&#1091;&#1076;&#1086;&#1078;&#1085;&#1080;&#1082;%20&#1084;&#1072;&#1082;&#1086;&#1074;&#1089;&#1082;&#1080;&#1081;&amp;p=1&amp;img_url=www.my-art.biz/uploads/posts/2009-12/1260738910_20-makovskijj-vladimir-egorovich.jpg&amp;rpt=simage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yandex.ru/yandsearch?text=&#1087;&#1086;&#1088;&#1090;&#1088;&#1077;&#1090;%20&#1080;&#1084;&#1087;&#1077;&#1088;&#1072;&#1090;&#1088;&#1080;&#1094;&#1072;%20&#1084;&#1072;&#1088;&#1080;&#1080;%20&#1072;&#1083;&#1077;&#1082;&#1089;&#1072;&#1085;&#1076;&#1088;&#1086;&#1074;&#1085;&#1099;%20&#1093;&#1091;&#1076;&#1086;&#1078;&#1085;&#1080;&#1082;%20&#1084;&#1072;&#1082;&#1072;&#1088;&#1086;&#1074;&amp;p=9&amp;img_url=img1.liveinternet.ru/images/attach/c/0/30/259/30259714_2444131970094285158qTmszV_fs.jpg&amp;rpt=simage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yandex.ru/yandsearch?rpt=simage&amp;text=&#1075;&#1088;&#1091;&#1087;&#1087;&#1086;&#1074;&#1086;&#1081;%20&#1087;&#1086;&#1088;&#1090;&#1088;&#1077;&#1090;%20&#1093;&#1091;&#1076;&#1086;&#1078;&#1085;&#1080;&#1082;%20&#1090;&#1088;&#1086;&#1087;&#1080;&#1085;&#1080;&#1085;&amp;p=2&amp;img_url=gellachara.files.wordpress.com/2010/08/174pinin_semeyptmorkovyxgtg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11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2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3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4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5" Type="http://schemas.openxmlformats.org/officeDocument/2006/relationships/hyperlink" Target="http://images.yandex.ru/yandsearch?ed=1&amp;text=&#1087;&#1077;&#1081;&#1079;&#1072;&#1078;%20&#1080;.&#1096;&#1080;&#1096;&#1082;&#1080;&#1085;&#1072;&amp;p=20&amp;img_url=www.zhaba.ru/_pics/yihbzqagmfwrkqbg.jpg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102;&#1086;&#1085;%20&#1080;&#1085;&#1076;&#1091;&#1089;&#1090;&#1088;&#1080;&#1072;&#1083;&#1100;&#1085;&#1099;&#1081;%20&#1087;&#1077;&#1081;&#1079;&#1072;&#1078;&amp;p=5&amp;img_url=www.mmt.su/a/?url=http%3A%2F%2Fbiography.sgu.ru%2Fbio%2Fdata%2Ffiles%2Fpictures%2Fimage%2F38783.jpg&amp;rpt=simag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img0.liveinternet.ru/images/attach/c/1/50/286/50286029_1256413875_Bezimeni2.jpg&amp;p=5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89;&#1090;&#1074;&#1086;&#1083;%20&#1089;&#1090;&#1072;&#1088;&#1086;&#1075;&#1086;%20&#1076;&#1091;&#1073;&#1072;%20&#1092;.%20&#1074;&#1072;&#1089;&#1080;&#1083;&#1100;&#1077;&#1074;&amp;p=1&amp;img_url=www.art-catalog.ru/data_picture_new/artist_68/picture/big_500/fvasil_2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82;&#1072;&#1084;&#1085;&#1080;%20&#1080;%20&#1089;&#1091;&#1096;&#1082;&#1072;%20&#1089;&#1077;&#1090;&#1077;&#1081;%20&#1092;.%20&#1074;&#1072;&#1089;&#1080;&#1083;&#1100;&#1077;&#1074;&amp;p=0&amp;img_url=2.bp.blogspot.com/_vYPIDwOMhm4/SAr_e7IeLfI/AAAAAAAALPA/ocwStW5yb-U/s320/Vasil%60ev_FA_031.jpg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yandex.ru/yandsearch?text=&#1087;&#1077;&#1081;&#1079;&#1072;&#1078;%20&#1082;&#1091;&#1080;&#1085;&#1076;&#1078;&#1080;&amp;rpt=simage&amp;img_url=www.russianartgallery.org/famous/images/kuinji_birches.jpg&amp;p=17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ed=1&amp;text=&#1087;&#1077;&#1081;&#1079;&#1072;&#1078;%20&#1089;&#1072;&#1074;&#1088;&#1072;&#1089;&#1086;&#1074;&amp;p=1&amp;img_url=zhurnal.lib.ru/img/s/shurygin_a_i/04aprel/grachi_prileteli.jpg&amp;rpt=simage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images.yandex.ru/yandsearch?ed=1&amp;text=&#1085;&#1072;&#1090;&#1102;&#1088;&#1084;&#1086;&#1088;&#1090;&#1099;%20&#1080;.&#1075;&#1088;&#1072;&#1073;&#1072;&#1088;&#1103;&amp;p=12&amp;img_url=naturmort.taba.ru/image/show_original/12684/image.jpg&amp;rpt=simage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В гостях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 у жанров ИЗ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tmb-0x" descr="http://im8-tub.yandex.net/i?id=121298387-04-24"/>
          <p:cNvPicPr/>
          <p:nvPr/>
        </p:nvPicPr>
        <p:blipFill>
          <a:blip r:embed="rId1"/>
          <a:stretch/>
        </p:blipFill>
        <p:spPr>
          <a:xfrm>
            <a:off x="1857240" y="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8-tub.yandex.net/i?id=17728466-02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7-tub.yandex.net/i?id=133867570-07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http://im7-tub.yandex.net/i?id=54598163-06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5002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http://im2-tub.yandex.net/i?id=256021409-10-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http://im7-tub.yandex.net/i?id=96428151-02-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00960" y="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http://im4-tub.yandex.net/i?id=42934500-08-2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908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http://im5-tub.yandex.net/i?id=111294348-04-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00960" y="22860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http://im8-tub.yandex.net/i?id=217216773-11-24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286000" y="47862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http://im4-tub.yandex.net/i?id=132254116-22-2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15080" y="478620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http://im5-tub.yandex.net/i?id=111294348-04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28920"/>
            <a:ext cx="185724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85880" y="571680"/>
            <a:ext cx="75722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 неодушевлённых предметов (домашней утвари, музыкальных инструментов) в натюрморте могут изображаться объекты и живой природы (рыба на столе, цветы в вазе, фрукты и овощ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Коровин                           Поль Сезанн                               К.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синей            «Натюрморт с вазой»              «Неприбранный стол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з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5" descr="http://im2-tub.yandex.net/i?id=134765201-0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2500200"/>
            <a:ext cx="187776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2-tub.yandex.net/i?id=50094007-06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328608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714240" y="785880"/>
            <a:ext cx="75726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Завтрак с ветчи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музыкаль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струмент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. 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яблоками»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http://im4-tub.yandex.net/i?id=18084497-08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357192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9" name="Рисунок 5" descr="http://im5-tub.yandex.net/i?id=71874583-20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42908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40" name="Рисунок 7" descr="http://im4-tub.yandex.net/i?id=21325654-19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0840" y="5000760"/>
            <a:ext cx="221436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5000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юрморт бывает нескольких вид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коративный натюрморт,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ыва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ящность и пышность, богатство и роскошь, - украшает интерь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имволический натюрморт ,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изображением предметов-символов (свечей, часов, черепов и др.) несет в себе тайный смы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 на 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й, что это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http://im7-tub.yandex.net/i?id=96428151-02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321480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714240" y="357120"/>
            <a:ext cx="7643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ПОРТ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франц. яз. portrait,  – изображать, передавать "черта в черту"), один из основных жанров  изобразительного искусства, изображение человека или группы людей, реально существующих либо существовавших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она Лиз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функционального назначения и композиционных особенностей различают следующие виды портретов: погрудные и в полный рост, однофигурные и групповые,  парадные и костюмированны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28760" y="3143160"/>
            <a:ext cx="83581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Маковский                                          В.А.Тропинин                                            И.Реп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графа                                       «Семейный                                            « Портрет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.П.Муравьева»                                        портрет»                                           П.Третьякова»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К.Макаров                                                В.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                                              «Девочка 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мператрицы                                             персик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лександровн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http://img.yandex.net/i/search/z-images__mask.png"/>
          <p:cNvPicPr/>
          <p:nvPr/>
        </p:nvPicPr>
        <p:blipFill>
          <a:blip r:embed="rId1"/>
          <a:stretch/>
        </p:blipFill>
        <p:spPr>
          <a:xfrm>
            <a:off x="163440" y="-326880"/>
            <a:ext cx="49536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8-tub.yandex.net/i?id=36389026-20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http://im0-tub.yandex.net/i?id=68266035-01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3080" y="29289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http://im3-tub.yandex.net/i?id=7290362-02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3200" y="44290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http://im4-tub.yandex.net/i?id=132254116-22-24"/>
          <p:cNvPicPr/>
          <p:nvPr/>
        </p:nvPicPr>
        <p:blipFill>
          <a:blip r:embed="rId8"/>
          <a:stretch/>
        </p:blipFill>
        <p:spPr>
          <a:xfrm>
            <a:off x="5643720" y="2928960"/>
            <a:ext cx="157140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9" descr="http://im7-tub.yandex.net/i?id=91689013-13-24"/>
          <p:cNvPicPr/>
          <p:nvPr/>
        </p:nvPicPr>
        <p:blipFill>
          <a:blip r:embed="rId9"/>
          <a:stretch/>
        </p:blipFill>
        <p:spPr>
          <a:xfrm>
            <a:off x="7215120" y="4429080"/>
            <a:ext cx="15717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356760"/>
            <a:ext cx="7286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, в котором художник изображает самого себя, называетс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портр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492912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55" name="Рисунок 5" descr="http://im5-tub.yandex.net/i?id=33799739-07-24"/>
          <p:cNvPicPr/>
          <p:nvPr/>
        </p:nvPicPr>
        <p:blipFill>
          <a:blip r:embed="rId2"/>
          <a:stretch/>
        </p:blipFill>
        <p:spPr>
          <a:xfrm>
            <a:off x="192888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56" name="Прямоугольник 6"/>
          <p:cNvSpPr/>
          <p:nvPr/>
        </p:nvSpPr>
        <p:spPr>
          <a:xfrm>
            <a:off x="1357200" y="4786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                              И.Э. Грабар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втопортрет                                     Авто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-tmb-0x" descr="http://im6-tub.yandex.net/i?id=56405085-21-24"/>
          <p:cNvPicPr/>
          <p:nvPr/>
        </p:nvPicPr>
        <p:blipFill>
          <a:blip r:embed="rId1"/>
          <a:stretch/>
        </p:blipFill>
        <p:spPr>
          <a:xfrm>
            <a:off x="4857840" y="228600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im8-tub.yandex.net/i?id=177990111-15-24"/>
          <p:cNvPicPr/>
          <p:nvPr/>
        </p:nvPicPr>
        <p:blipFill>
          <a:blip r:embed="rId2"/>
          <a:stretch/>
        </p:blipFill>
        <p:spPr>
          <a:xfrm>
            <a:off x="1928880" y="228600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642960" y="642960"/>
            <a:ext cx="8001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качество портрета – сходство с оригиналом – обеспечивается точным изображением внешнего облика челове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Репин                                     К.Брюлл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ортрет жены»                       «Портрет Н.Гончаров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что с  кар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чик или балер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Колька – твой сосе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Изображение художником самого себ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ортр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400" y="49968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и использовали и используют в своей работе самые различные художественные материалы (графитные карандаши, уголь, тушь, гуашь, акварельные и масляные краски), приемов и способов работы ими очень много, они сложны и разнообразны. Но в зависимости от того, что изображено на картине,  можно определить е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образительном искусстве различают следующие жанры: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яду с ними существуют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сторический , бытовой, батальный и анималистические жан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ПЕЙЗАЖА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(фран. слово paysage, от pays - местность), вид, изображение какой-либо местности; в живописи и в графике жанр изобразительного искусства, в котором основным предметом изображения является - при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0" descr="http://im7-tub.yandex.net/i?id=45485502-18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7680" y="3286080"/>
            <a:ext cx="3429000" cy="2506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05" name="Прямоугольник 6"/>
          <p:cNvSpPr/>
          <p:nvPr/>
        </p:nvSpPr>
        <p:spPr>
          <a:xfrm>
            <a:off x="22860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И.Шишкин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Утро в сосновом бору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что нарисовано на картин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в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льс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родским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архитектурными,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индустриа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321480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.К.Савра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ейзаж с избушк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Неизвестный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Городской пейзаж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еизвестный 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Вид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Утро индустриальной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6" descr="http://im3-tub.yandex.net/i?id=171093013-09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357800"/>
            <a:ext cx="2071800" cy="1571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Picture 8" descr="http://im2-tub.yandex.net/i?id=33502441-15-24"/>
          <p:cNvPicPr/>
          <p:nvPr/>
        </p:nvPicPr>
        <p:blipFill>
          <a:blip r:embed="rId3"/>
          <a:stretch/>
        </p:blipFill>
        <p:spPr>
          <a:xfrm>
            <a:off x="4572000" y="3214800"/>
            <a:ext cx="2125800" cy="1714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8" descr="http://im2-tub.yandex.net/i?id=256021409-10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1840" y="2428920"/>
            <a:ext cx="214308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1" name="Рисунок 24" descr="http://im2-tub.yandex.net/i?id=233066117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1643040"/>
            <a:ext cx="2071800" cy="15606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орской пейзаж – мари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итальян. marina,— морской) — один из видов пейзажа, объектом изображ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го  является мо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образную красоту то спокойного, то бурного моря изображал в своих работа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удожник – маринист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 Константинович Айвазовск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2428920"/>
            <a:ext cx="8258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Девятый вал»                                                 «Константин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ри  лун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Буря»                                                         «Ледяные гор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im5-tub.yandex.net/i?id=70290179-03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1800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2500200" cy="178560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2071800" y="4429080"/>
            <a:ext cx="2381040" cy="17859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6114960" y="4254480"/>
            <a:ext cx="2565360" cy="2067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ментами пейзажа могут бы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ная поверхность (камни, песок, земл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сть (деревья, кусты, цветы и трав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ческие постройки (домики, замки, избушки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пектива (уходящие вдаль дорога, тропинка, река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оёмы (озера, моря, ре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ака, солнце, дож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Ф. Васильев                                                   Ф. Василь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Камни.  Сушка сетей»                                «Ствол старого дерева»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http://im8-tub.yandex.net/i?id=66350458-00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2928960"/>
            <a:ext cx="2286000" cy="2786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21" name="Рисунок 8" descr="http://im5-tub.yandex.net/i?id=235617758-1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3571920"/>
            <a:ext cx="30006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67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                                          А.И.Куинджи</a:t>
            </a: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артовское солнце»                     «Солнечные пятна на ине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какое время года изобразил художник различ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имний, весенний, осенний и летний пейзаж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И.Шишкин                                А.К.Саврасов                               А.И.Куиндж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«Рожь»                                «Грачи прилетели»                     «Березовая роща»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-tmb-0x" descr="http://im2-tub.yandex.net/i?id=138078619-18-24"/>
          <p:cNvPicPr/>
          <p:nvPr/>
        </p:nvPicPr>
        <p:blipFill>
          <a:blip r:embed="rId1"/>
          <a:stretch/>
        </p:blipFill>
        <p:spPr>
          <a:xfrm>
            <a:off x="4857840" y="357120"/>
            <a:ext cx="2286000" cy="1576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4" name="Рисунок 3" descr="http://im0-tub.yandex.net/i?id=64283694-05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4214880"/>
            <a:ext cx="2500200" cy="170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5" name="i-tmb-0x" descr="http://im2-tub.yandex.net/i?id=256129581-09-24"/>
          <p:cNvPicPr/>
          <p:nvPr/>
        </p:nvPicPr>
        <p:blipFill>
          <a:blip r:embed="rId4"/>
          <a:stretch/>
        </p:blipFill>
        <p:spPr>
          <a:xfrm>
            <a:off x="1643040" y="357120"/>
            <a:ext cx="2235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Рисунок 6" descr="http://im5-tub.yandex.net/i?id=89342257-20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3714840"/>
            <a:ext cx="1830240" cy="2214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Рисунок 8" descr="http://im4-tub.yandex.net/i?id=118490941-08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4214880"/>
            <a:ext cx="2286000" cy="173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на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ад и обл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Как называют художника изображающего м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00040" y="642960"/>
            <a:ext cx="79297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НАТЮРМ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́р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nature mor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- «мёртвая натура»)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й и разнообразный жанр изобразительного искусства,  который посвящен изображению окружающих человека вещ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. Ван Гог  «Подсолнух»                      И. Э. Грабарь «Груш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8" descr="http://im7-tub.yandex.net/i?id=75802727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3071880"/>
            <a:ext cx="207144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2" name="Рисунок 9" descr="http://im6-tub.yandex.net/i?id=66595025-06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071880"/>
            <a:ext cx="200016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1:07Z</dcterms:created>
  <dc:creator>Дрогунов Евгений Борисович</dc:creator>
  <dc:description/>
  <dc:language>en-US</dc:language>
  <cp:lastModifiedBy>Зуля</cp:lastModifiedBy>
  <dcterms:modified xsi:type="dcterms:W3CDTF">2011-03-14T05:00:16Z</dcterms:modified>
  <cp:revision>140</cp:revision>
  <dc:subject/>
  <dc:title>Слайд 1</dc:title>
</cp:coreProperties>
</file>